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114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3.png" ContentType="image/png"/>
  <Override PartName="/ppt/media/image21.jpeg" ContentType="image/jpeg"/>
  <Override PartName="/ppt/media/image29.png" ContentType="image/png"/>
  <Override PartName="/ppt/media/image4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3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8A5B-75FF-4A8D-B9E8-F45E75265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7769-065A-4001-8A54-6564CA799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3817-2FFE-4E01-8DD8-A49AE153F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4ED9-5338-4D28-AEB5-A526D3FF4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BA64-09FF-4334-A1C7-213D93A28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4E62-FCD9-45FD-AC64-58A5A3CF3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32C7-A51E-4FA5-B115-EA373E6F5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69B8-4643-4920-A3ED-43E412621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4091-CB12-49DB-B2D0-22D14135F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4CEA-DF87-4A94-9166-7035C3165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3AC4-BFAF-467C-AC2A-B0FAAEFFD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7B14-D3BF-4AD3-A5A8-2B24A163D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2768-33F9-48B2-8F66-A3E4CB839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2C2E-82BE-4783-B147-A2BDAD74D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C2E0-1DF9-43B4-9335-A8F9BFA7A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7EC7-CE11-4FFE-A3E3-1F4C69905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EB76-A2AF-4A24-AD19-5FEC1993C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D516-E782-4EEC-843A-08FF99E7D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EC6A-63E4-48D6-9C05-B1373FACB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0022-3C9D-4393-8EA0-9FD035738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BEEE-DCB8-4203-932E-2B9308833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C242-517C-45B3-90E3-23486DBF9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6B5C-6BD7-4B7E-8C9E-4D6A0550F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2621-2A6F-40E9-84DF-E96AF841F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C7A2-C250-4FBE-A50F-8944E1DA6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316E-37F1-4942-BFE5-D4121BE80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2360" y="68904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02880" y="4249800"/>
            <a:ext cx="4970520" cy="40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1A55-895B-401C-AFA4-1645EBF0E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1C6A-D9D0-4D24-9B3B-24A8CCC55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C148-215E-4A02-BBF0-A14D33FF3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D0F1-6B3B-43EB-8165-F0D798A5C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4837-8AA2-4D07-B8E7-AEFFAD4A1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C898-6FA8-4B29-BE0D-FAE988E4A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27240" y="8424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7760" y="3554280"/>
            <a:ext cx="670248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34E0-5C9A-4D91-80E8-A7CA79677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A41B-7AF4-45BD-B9BA-41DB27A8A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27240" y="8424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7760" y="3554280"/>
            <a:ext cx="670248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FD19-B1D5-4C40-9961-8FFFAC577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227240" y="8424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7760" y="3554280"/>
            <a:ext cx="670248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117A-3195-4955-B539-5BF2158A6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9FCB-CF28-4067-986B-8348FBF63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4358-9879-4B3C-B5DA-46594AEFA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71A3-B3C5-4E86-AC34-42C34F089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22E8-1A01-46E3-9A6B-0FF13F738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0618-F744-4C2D-AFA4-388651BB9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8C24-7008-43AF-9413-315A7EE5B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5FC3-4C64-415D-A516-6F8321A86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27240" y="8424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7760" y="3554280"/>
            <a:ext cx="670248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0C45-9B64-4803-BB5E-4744A8A12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D70C-C57C-4D74-B726-95FA11933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9488-A0AA-4401-A8E2-5CDB96CAA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8BB4-E7CF-4C42-AFCD-D87F4BC85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37E7-0BCD-461F-9BE8-4B91183A4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37B7-80C4-47AE-8C79-A97CC0C9B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6B87-8C38-4675-A19A-59622F770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8FF9-AA98-4E16-A932-785F5DEA1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4E32-A931-4BFC-9583-2CA201CAE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6DBF-7124-4D5E-90BB-58E7D732E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C408-DCD7-45AC-9A42-45163F9BB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27240" y="8424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7760" y="3554280"/>
            <a:ext cx="670248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559F-350A-4A84-B256-34C4943DF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DA71-B795-45F3-BA68-6658602B4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D865-A3DC-4B75-807D-CA7E238B0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675A-CC73-4C24-873A-BC45581F6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5154-846D-48DD-BB11-AA1F89AAC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F897-D4B9-4AD1-8F44-379F31811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F736-94C0-4FC8-88D2-C611D7034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66C0-0324-4350-BC40-CF024AEA7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F794-302A-4833-9846-0485B59A3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1F6B-322E-44D2-BBB8-66B47A82F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507C-3616-4FC2-BE3C-069D40BE6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27240" y="8424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7760" y="3554280"/>
            <a:ext cx="670248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379C-1102-47A2-9E5F-5FA8EA3DC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67B7-5AC2-4D21-A849-173B3ED2D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A7F0-596A-4DA5-A8DB-C6A69E577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BA3C-97D3-40D5-80E5-761B18D14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9A51-7991-419E-A487-3736297DA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5FE2-0151-49E5-A471-FFEFA7AA9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3969-486F-46F5-BC27-90EF2AAE5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762F-AB76-4912-87FA-118BD8CB4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692A-56AC-432D-B708-F11029FF8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931A-3A87-4104-86BC-1EA2D5B05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65A7-10AE-4728-AEFE-81F2D5B55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27240" y="8424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7760" y="3554280"/>
            <a:ext cx="670248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2E77-0BB9-463F-87BB-EA82D6423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2C3C-C95A-4A61-8430-33803354D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AAB3-C06E-4A6A-8189-43441AF9A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80C2-9A00-48E8-BFBF-F62CB74BA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A382-8134-4D1F-9102-A63B7C0FF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5EEF-46A8-44A4-934A-31159ACF4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1E4C-9342-4384-B86F-49875326D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C082-B8B6-4678-AB82-1190924E4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F2B7-06C1-4A4F-AF1D-BFE84172E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A614-E690-4DF8-A699-BED415818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F584-7498-4C13-AADD-D05AC538F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27240" y="8424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7760" y="3554280"/>
            <a:ext cx="670248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ABFD-68C7-4A06-B9B2-A45FB576D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FCD6-4826-41EB-973B-5F4379259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50920" y="703440"/>
            <a:ext cx="4591080" cy="344304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28440" y="4357800"/>
            <a:ext cx="50353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229D-5EEA-434F-B492-AAB5FADAD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50920" y="703440"/>
            <a:ext cx="4591080" cy="344304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28440" y="4357800"/>
            <a:ext cx="50353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C24D-72F6-4ED5-A052-71F20D790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50920" y="703440"/>
            <a:ext cx="4591080" cy="344304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28440" y="4357800"/>
            <a:ext cx="50353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3531-4713-4B8C-8FE2-8EDF4CE0B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6822-B8BE-4478-AEB6-996C42EC9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5CF8-2257-48BE-9165-30057ABDB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37E1-C941-40E6-8DA2-36AACC73B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9E45-A86F-45D3-92CA-5566CB9D0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DFBA-AEB3-49EE-B11A-B5BEA0CCA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A186-25AB-4133-83AE-D1F9FA819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81EB-97B6-4C6D-A812-7A72BF5E8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E4FF-6852-456E-95FD-CBBACB8CE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C17C-7DF1-4651-A1A9-E92553D55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4D7C-6333-49B0-8282-5E12D32ED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D613-B6F8-4A21-8D05-D6F6E0A44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50920" y="703440"/>
            <a:ext cx="4591080" cy="344304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28440" y="4357800"/>
            <a:ext cx="50353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9319-4020-451D-B59B-A6E48FF7C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F7B1-8F2F-4E5F-86BE-EAA4AACCA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06C4-F21B-4B55-B651-DDE07780E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6D6D-C24E-4969-B5E7-1E017E337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C3C7-7914-4C1A-BE0D-0BB6B5963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063A-9FF9-44E3-BF86-2497560E0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E048-E92B-41BE-B786-1783BC273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51A1-CC9C-40DE-A77B-5100B07A7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BFD7-FEB2-4719-830D-BD08E532E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5022-A5D0-42F2-92D4-1B340C602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D9C3-8BE8-4031-9C3E-FE8CC4ADE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1763-F452-4BB9-BBCA-3C163692C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08AF-8B60-4105-AB71-28C748437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33AE-3355-434D-908E-93D727F57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A482-230F-4C04-BEF8-9B9981E1C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0800" y="4347720"/>
            <a:ext cx="50310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6BE1-8940-4D6D-91DC-22A6B51DD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DEE9-3B32-4D62-9F23-443C4B60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F80-3D7B-446B-94C3-1617071A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2DED-E22A-4F4B-8F74-50A3D9E9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80A-259D-4CE7-88E6-1BC1B89C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AE20-0DA1-45C8-8DE0-9EFA11C5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0F2A-F6AF-4342-96E6-C5BA23AD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CDE6-77AB-423C-9D7D-30B675AD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2A73-CA98-4F67-A3BB-77E60B2C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B6EF-4C93-417D-B4B3-6FC59F29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1F52-8058-4ECC-9B87-25A22A48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D3E3-AA90-4DB0-963E-DC50D32F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468D-11FF-4706-9744-ECE32C7E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C8D5-BEBE-47A3-B984-255868BD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CC10-F8FC-4203-ADA3-ADD2F51F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6195-2DC2-4314-A588-55701F38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491C-6531-4560-B1CF-258D5935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B6B6-83C7-40E3-9E39-9FBD75C0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48A1-A823-4026-91FA-BCBD94FE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9D6-B968-4DD6-A3B9-ACD2A54E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DBC-FCBA-41F9-A9E7-CB013697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BD76-C1DD-46A4-A2D7-6D225C67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F41C-29E9-4FE9-B813-7D9C09E6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627-4D8E-435D-B47B-AEE3A2E1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0CA-874F-47A6-AF74-528135E5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FD00-3391-4CC0-8E21-0E7A94287C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8788-2326-4BBB-8FFA-F14AC403DC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a50021"/>
                </a:solidFill>
                <a:latin typeface="Arial"/>
              </a:rPr>
              <a:t>Interface Gráfica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urso de Linguagem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sé Antonio F. de Macê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macedo@inf.puc-rio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lasses para Tipos Básico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que encapsulam os tipos bá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lo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C815-63C0-4103-9F2E-5D3F96B5F7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Exemplo 5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pple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GridLayoutApplet extends Apple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onfigura o "layout" do "applet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setLayout(new GridLayout(2,2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Button("Botão (1,1)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Label("Rótulo (1,2)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TextField("Caixa de Texto (1,3)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Button("Botão (2,1)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TextField("Caixa de Texto (2,2)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Label("Rótulo (2,3)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5E07-D0DF-42A8-AC0E-7DB49B5613D7}" type="slidenum">
              <a:t>10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Combinando </a:t>
            </a:r>
            <a:r>
              <a:rPr b="0" i="1" lang="pt-BR" sz="3800" spc="-1" strike="noStrike">
                <a:solidFill>
                  <a:srgbClr val="a50021"/>
                </a:solidFill>
                <a:latin typeface="Arial"/>
              </a:rPr>
              <a:t>layout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039760" y="1720800"/>
            <a:ext cx="5697720" cy="40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5668-A0A1-40AA-8EB5-3CDE2FD292B3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Exemplo 6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43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pple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MultiLayoutApplet extends Apple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ria três painé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anel sul   = new Pane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anel leste = new Pane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anel norte = new Pane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onfigura o "layout" do "applet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etLayout (new BorderLayout 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CAA-2DC7-4DD7-AA14-0B62D4D8A0DE}" type="slidenum">
              <a:t>10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Exemplo 6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onfigura o "layout" do painel n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rte.setLayout(new FlowLayout(FlowLayout.CENTER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ria um rót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abel label = new Label ("Digite o texto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onfigura a fonte do rótul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ont font = new Font("Serif", Font.BOLD | Font.ITALIC, 2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abel.setFont (fo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...e adiciona o painel norte à posição norte do "applet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rte.add (labe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 ("North", nort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Adiciona uma área de texto ao centro do "applet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 ("Center", new TextArea 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0EF3-6A32-474E-8604-33925348319B}" type="slidenum">
              <a:t>10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Exemplo 6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32880" y="1295280"/>
            <a:ext cx="85107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onfigura o "layout" do painel lest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este.setLayout (new GridLayout (3,1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..., adiciona vários botões a el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este.add (new Button ("Reformatar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este.add (new Button ("Ortografia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este.add (new Button ("Opções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...e o adiciona à posição leste do "applet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 ("East", lest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2591-58D3-4D17-8E2F-B919DE3A9940}" type="slidenum">
              <a:t>10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Exemplo 6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32880" y="1295280"/>
            <a:ext cx="85107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onfigura o "layout" do painel s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ul.setLayout (new FlowLayout 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..., adiciona vários botões a el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ul.add (new Button ("Salvar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ul.add (new Button ("Cancelar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ul.add (new Button ("Ajuda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...e o adiciona à posição sul do "applet"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 ("South", su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0B1A-8359-44EA-9FE8-9A8F3F7605F7}" type="slidenum">
              <a:t>10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Modelo de Eventos 1.1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DK 1.1 - Modelo de Deleg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ada componente registra um objeto que irá receber os eventos (objeto listener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 recepetor de eventos é um objeto de uma classe separada da classe compon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s eventos são objetos que são reportados somente aos “listeners” registr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ada evento tem uma interface listener associad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3BFC-1CD2-47A4-B2D4-C364E9832A8A}" type="slidenum">
              <a:t>10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Modelo de Eventos 1.1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457200" y="1752480"/>
            <a:ext cx="7828200" cy="4654080"/>
            <a:chOff x="457200" y="1752480"/>
            <a:chExt cx="7828200" cy="4654080"/>
          </a:xfrm>
        </p:grpSpPr>
        <p:grpSp>
          <p:nvGrpSpPr>
            <p:cNvPr id="372" name=""/>
            <p:cNvGrpSpPr/>
            <p:nvPr/>
          </p:nvGrpSpPr>
          <p:grpSpPr>
            <a:xfrm>
              <a:off x="457200" y="2165040"/>
              <a:ext cx="3216960" cy="1924920"/>
              <a:chOff x="457200" y="2165040"/>
              <a:chExt cx="3216960" cy="1924920"/>
            </a:xfrm>
          </p:grpSpPr>
          <p:sp>
            <p:nvSpPr>
              <p:cNvPr id="373" name=""/>
              <p:cNvSpPr/>
              <p:nvPr/>
            </p:nvSpPr>
            <p:spPr>
              <a:xfrm>
                <a:off x="457200" y="2165040"/>
                <a:ext cx="3216960" cy="192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85960" y="2646000"/>
                <a:ext cx="2430720" cy="1100160"/>
              </a:xfrm>
              <a:prstGeom prst="rect">
                <a:avLst/>
              </a:prstGeom>
              <a:solidFill>
                <a:srgbClr val="d9d8e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815480" y="3058560"/>
                <a:ext cx="1358280" cy="481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BOTÃ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57920" y="216504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Fr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86680" y="2646000"/>
                <a:ext cx="85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Pane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5142960" y="312768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Ev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998080" y="3333960"/>
              <a:ext cx="207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8720" y="4846680"/>
              <a:ext cx="4789800" cy="1099800"/>
            </a:xfrm>
            <a:prstGeom prst="rect">
              <a:avLst/>
            </a:prstGeom>
            <a:solidFill>
              <a:srgbClr val="6767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actionPerformed (ActionEvent 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// tratamento do ev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18000" y="4434120"/>
              <a:ext cx="466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Objeto Listener - tratador de even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65120" y="1752480"/>
              <a:ext cx="6276600" cy="398880"/>
            </a:xfrm>
            <a:prstGeom prst="rect">
              <a:avLst/>
            </a:prstGeom>
            <a:solidFill>
              <a:srgbClr val="6767ff"/>
            </a:solidFill>
            <a:ln w="12600">
              <a:solidFill>
                <a:srgbClr val="0616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botao.addActionListener(new Tratador()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81400" y="5946840"/>
              <a:ext cx="181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ratador.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4" name=""/>
            <p:cNvCxnSpPr>
              <a:stCxn id="375" idx="4"/>
              <a:endCxn id="381" idx="1"/>
            </p:cNvCxnSpPr>
            <p:nvPr/>
          </p:nvCxnSpPr>
          <p:spPr>
            <a:xfrm>
              <a:off x="2494800" y="3540240"/>
              <a:ext cx="1130400" cy="1100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9FA-B31F-4FCF-9C83-F7864BF6A422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12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public class TesteEv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static void main (String p[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Janela janela = new Janela(“Contador de \”cliques\”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janela.inici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AD41-CA7D-4BE6-9CCB-8C5385188E5C}" type="slidenum">
              <a:t>10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Janela extends Fram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 bota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Janela(String titu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et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uper(titul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 = new Button("0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Label("Clique no botão!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12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CCE-E05E-4D4A-A251-6AC1B8D93F7A}" type="slidenum">
              <a:t>10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xemplos de Us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b = new Boolean(“true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b.booleanValue()) ... else ..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ger i = new Integer(“123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j = i.intValu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f = func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f==Float.POSITIVE_INFINITY || f==Float.NEGATIVE_INFIN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(f==Float.N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32F-2E77-4BCC-A917-D9F007C1FD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id iniciar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Tratador tratador = new Tratador(bota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Adicionando tratadores de ev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tao.addActionListener(Tratador);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WindowListener(Tratado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a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etVisible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12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ED87-B3CF-4410-BD57-EEB2EC87BEF9}" type="slidenum">
              <a:t>1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8628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import java.awt.even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Tratador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 implements ActionListen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WindowListener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 bota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Tratador(Button botao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this.botao = bota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public void actionPerformed(ActionEvent e)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cliques = Integer.parseInt(botao.getLabel())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tao.setLabel(String.valueOf(cliques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12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CDE1-6D1D-4A2F-9D84-4F5798375190}" type="slidenum">
              <a:t>1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public void windowClosing (WindowEvent w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public void windowActivated (WindowEvent we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public void windowClosed (WindowEvent we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public void windowDeactivated (WindowEvent we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public void windowDeiconified(WindowEvent we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public void windowIconified (WindowEvent we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public void windowOpened (WindowEvent we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12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8D6B-06FD-4DBA-B334-AFA699EA05A0}" type="slidenum">
              <a:t>1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Usando eventos em menu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590920" y="1600200"/>
          <a:ext cx="320652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600200"/>
                    <a:ext cx="320652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5257800" y="4038480"/>
            <a:ext cx="2811600" cy="12225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1143000" y="4038480"/>
            <a:ext cx="2813040" cy="12225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5"/>
          <a:stretch/>
        </p:blipFill>
        <p:spPr>
          <a:xfrm>
            <a:off x="1143000" y="5257800"/>
            <a:ext cx="2813040" cy="12222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6"/>
          <a:stretch/>
        </p:blipFill>
        <p:spPr>
          <a:xfrm>
            <a:off x="5257800" y="5257800"/>
            <a:ext cx="2813040" cy="122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646-8125-4955-BE94-9D420B168692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MenuEventsTest extends Frame implements ActionListen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indowListener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TextField e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MenuEventsTest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co = new TextField(2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ec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Bar menuB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 men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Item i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13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D57-D071-46A4-9D44-E85302ED49F6}" type="slidenum">
              <a:t>1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13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175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 = new Menu("Fil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tem = new MenuItem("New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tem.addActionListener(thi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.add(ite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tem = new MenuItem("Ope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tem.addActionListener(thi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.add(ite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tem = new MenuItem("Sav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tem.addActionListener(thi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.add(ite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4387-0060-4B22-9B19-A7F52387D583}" type="slidenum">
              <a:t>1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195200" y="1676520"/>
            <a:ext cx="7175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.addSeparato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tem = new MenuItem("Exi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tem.addActionListener(thi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.add(ite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Bar = new MenuBa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Bar.add(menu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etMenuBar(menuB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WindowListener(thi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a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how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13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867-79B8-473C-A5FB-8180A042AEE8}" type="slidenum">
              <a:t>1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983880" y="1600200"/>
            <a:ext cx="7737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enuEventsTest menuEventsTest = new MenuEventsTes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 { eco.setText(((MenuItem)event.getSource()).getLabel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windowClosing (WindowEvent even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13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E199-0F81-444B-A61E-6BE13E18FEB2}" type="slidenum">
              <a:t>1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1195200" y="1523880"/>
            <a:ext cx="71751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windowActivated (WindowEvent event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windowClosed (WindowEvent event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windowDeactivated (WindowEvent event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windowDeiconified(WindowEvent event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windowIconified (WindowEvent event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windowOpened (WindowEvent event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13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B59-340B-4BD5-BD1D-60FD08E85BB1}" type="slidenum">
              <a:t>1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Swin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to de classes que faz parte da biblioteca Java Foundation Classes (JF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ão do AWT (Abstract Windowing Toolkit) integrada ao JDK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7696080" y="457200"/>
            <a:ext cx="79056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D4D-37CC-4A77-BE40-749B16A4EA80}" type="slidenum">
              <a:t>1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String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 &amp; </a:t>
            </a: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StringBuffer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string imut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ingBuff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string mut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B30-5C50-436E-B228-7066258D23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Vantagens do Swin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rência e Comportame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tilo do S.O. nativo o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tivo exclusivo Java chamado Met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es implementados inteiramente em Ja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lhor compatibilidade entre plataformas do que AW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9B36-20CE-4232-AE00-7BDBEEFCB947}" type="slidenum">
              <a:t>1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ATENÇÃ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utilizar classes Swing é necessário importar o paco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mport javax.swing.*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: Evite misturar componentes AWT e S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 rot="1342200">
            <a:off x="2666160" y="3352680"/>
            <a:ext cx="2819520" cy="114300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2D6-4B1B-43A1-8C40-38F02DD1F2B8}" type="slidenum">
              <a:t>1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523880" y="2286000"/>
            <a:ext cx="624852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514520" y="3174840"/>
            <a:ext cx="625788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14520" y="4076640"/>
            <a:ext cx="6257880" cy="333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514520" y="4724280"/>
            <a:ext cx="625788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Aplicativos Swin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010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mportar pacote Swing (e geralmente awt também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rar sub-classe de JFram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class MinhaJanela extends JFram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haJanela(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dimensionar janela automaticament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rnar janela visível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Visible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71D-F5BB-4208-BD91-EED126C8F3CF}" type="slidenum">
              <a:t>1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295280" y="3962520"/>
            <a:ext cx="6934320" cy="1676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7732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 trabalhar com Swing, utilizamo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m container intermediário chamado </a:t>
            </a:r>
            <a:r>
              <a:rPr b="0" lang="en-US" sz="2300" spc="-1" strike="noStrike">
                <a:solidFill>
                  <a:srgbClr val="ff0066"/>
                </a:solidFill>
                <a:latin typeface="Arial"/>
              </a:rPr>
              <a:t>painel de conteúdo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-2034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de adicionamos outros containers e compone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ão, precisamos dizer qual é o painel de conteú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Button botao = new JButton (“Texto botao”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Panel pane = new JPanel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ane.add(botao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tContentPane(pane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ta instrução transforma pane no painel de conteúdo!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Importante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" y="571500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252A-FD02-471C-8617-317A9EBA5723}" type="slidenum">
              <a:t>1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371600" y="1612800"/>
            <a:ext cx="7086600" cy="3492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71600" y="5168880"/>
            <a:ext cx="708660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Juntando tud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9152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lvl="2" marL="857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x.swing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class MinhaJane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s JFram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nhaJanela(String titulo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tul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Panel pane = new JPanel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99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Button botao = new JButton (“Texto botao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99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e.add(bota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99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setContentPane(pa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99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99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Visible(tru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5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5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5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5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class TestaMinhaJanela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static void main(String args[]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haJane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= new MinhaJane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“Titulo da Aplicacao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7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9B9-7C8E-401B-9A0D-C51E9295FBBA}" type="slidenum">
              <a:t>1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ntão, Conceitos Importantes: 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 aplicação cria 3 componentes comu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m frame, ou janela principal (JFrame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m painel, também chamado pane (JPanel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m botão (JButton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Frame </a:t>
            </a:r>
            <a:r>
              <a:rPr b="0" lang="en-US" sz="2100" spc="-1" strike="noStrike">
                <a:solidFill>
                  <a:srgbClr val="808080"/>
                </a:solidFill>
                <a:latin typeface="Arial"/>
              </a:rPr>
              <a:t>(a top-level containe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66"/>
                </a:solidFill>
                <a:latin typeface="Arial"/>
              </a:rPr>
              <a:t>                          </a:t>
            </a:r>
            <a:r>
              <a:rPr b="0" lang="en-US" sz="2100" spc="-1" strike="noStrike">
                <a:solidFill>
                  <a:srgbClr val="ff0066"/>
                </a:solidFill>
                <a:latin typeface="Arial"/>
              </a:rPr>
              <a:t>content pane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panel </a:t>
            </a:r>
            <a:r>
              <a:rPr b="0" lang="en-US" sz="2100" spc="-1" strike="noStrike">
                <a:solidFill>
                  <a:srgbClr val="808080"/>
                </a:solidFill>
                <a:latin typeface="Arial"/>
              </a:rPr>
              <a:t>(an intermediate container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----------------+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|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Button  ...        Jlabel </a:t>
            </a:r>
            <a:r>
              <a:rPr b="0" lang="en-US" sz="2100" spc="-1" strike="noStrike">
                <a:solidFill>
                  <a:srgbClr val="808080"/>
                </a:solidFill>
                <a:latin typeface="Arial"/>
              </a:rPr>
              <a:t>(atomic components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475-C972-4E0B-9405-E7FD2D611970}" type="slidenum">
              <a:t>1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ATENÇÃ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vez definido o painel de conteúdo para um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étodos como setLayout (LayoutManager) e add(Component) são chamados a partir do painel de conteúdo e não do container de alto ní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22FA-9C76-4C00-9CB1-7DBDFD468FA0}" type="slidenum">
              <a:t>1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s Swin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em componentes Swing correspondentes a cada um dos componentes AWT que estud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em novos construtores para componentes S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9616-ADC6-4790-A742-434C62DF1C83}" type="slidenum">
              <a:t>1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371600" y="4952880"/>
            <a:ext cx="777240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JLabel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	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da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clusão de íco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inhamento individual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t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Label(String, i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rótulo de texto, alinhamento=JLabel.{LEFT, CENTER, RIGHT}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Label(String, Icon, i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dem mais ícone da seguinte form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ageIcon icone = new ImageIcon("nomeIcone.gif"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Label titulo = new JLabel("titulo",icone,JLabel.LEFT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6705720" y="1765440"/>
            <a:ext cx="2286000" cy="141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AB4-F84D-4305-9761-C6F738B8B775}" type="slidenum">
              <a:t>1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JButton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	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dad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são de íc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Button(Strin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Button(Ic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Button(String, Ic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texto, ícon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214720" cy="15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F68D-B19A-4AEF-82CC-6FC08DF5F718}" type="slidenum">
              <a:t>1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java.lang.Strin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tores apartir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ing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tores apartir de vetores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sulta, comparação e pesqu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ver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9664-B6B3-4199-B958-1C5D8DCFF7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3311640" y="4267080"/>
            <a:ext cx="232704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84582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da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étodo setEchoChar(char) não é mais suporta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t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TextField(i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TextField(String,i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texto, largur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e JPasswordFi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qui o método setEchoChar(char) é suporta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tores idênt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PasswordField(i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PasswordField(String,i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44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texto, largur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JTextField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6934320" y="2362320"/>
            <a:ext cx="2133360" cy="172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7B2-4DC1-4B14-A2CD-241908CD58BF}" type="slidenum">
              <a:t>1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JTextArea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TextArea(int, in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TextArea(String,int, in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texto, linhas, colun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027-5F9B-4463-9FE9-694BA35B1E55}" type="slidenum">
              <a:t>1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JCheckBox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da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clusão de íco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t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CheckBox(Str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CheckBox(Ic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CheckBox(String, boolea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CheckBox(Icon, boolea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CheckBox(String, Ic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CheckBox(String, Icon, boolea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texto, ícone, boolean true para caixa selecioand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5715000" y="1824120"/>
            <a:ext cx="3114720" cy="23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50BA-E83E-42B0-887E-8D21BA79738D}" type="slidenum">
              <a:t>1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JRadioButton 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9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idad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cessidade de declarar a classe ButtonGroup para que apenas um componente possa ser selecionado de cada v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asse CheckboxGroup não é mais utiliza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6E9A-0F7A-45B7-ADEF-A05264263C88}" type="slidenum">
              <a:t>1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JRadioButton 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9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RadioButton birdButton = new JRadioButton(birdStr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dButton.setSelected(tru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RadioButton catButton = new JRadioButton(catStr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RadioButton dogButton = new JRadioButton(dogStr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RadioButton rabbitButton = new JRadioButton(rabbitStr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RadioButton pigButton = new JRadioButton(pigStr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Agrupa  radio butt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Group group = new ButtonGroup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.add(birdButt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.add(catButt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.add(dogButt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.add(rabbitButt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.add(pigButt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5943600" y="4724280"/>
            <a:ext cx="28386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5E6-D9EB-44F1-A2A3-6350877BB60D}" type="slidenum">
              <a:t>1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JComboBox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39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da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vo nome para classe Cho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t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ComboBox(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-2034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m argum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tem(Object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-2034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iciona item à li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tEditable(boolea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-2034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lse para transformar em lista de escolha 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-2034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ue para transformar em lista com inclusão permitid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6629400" y="2730600"/>
            <a:ext cx="2286000" cy="182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0E4-020C-467B-B681-DCD30D1EA3F8}" type="slidenum">
              <a:t>1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JScrollBar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ScrollBar(in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ScrollBar(int, int, int, int, int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orientação JScrollBar.{HORIZONTAL, VERTICAL}, valor inicial, tamanho da caixa, valor mínimo, valor máxim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6AF0-C4AF-4ABA-8466-B32C330561FA}" type="slidenum">
              <a:t>1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Novos Recursos do Swin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enciador de Interface que controla Aparência e Compor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emônicos de Tec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as Descri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ixas de Diálogo Padr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CFBA-95F0-4658-BE3F-4F3A59B3AD42}" type="slidenum">
              <a:t>1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Definição de Aparência e Comportament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3600360"/>
            <a:ext cx="91440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Manager.setLookAndFeel(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UIManager.getSystemLookAndFeelClassNam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catch (Exception 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.err.println("Couldn't use the system " + "look and feel: " + 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1828800"/>
            <a:ext cx="777240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 UIManager possui método setLookAndFeel(LookAndFeel) que permite escolher aparência e comportamento de um pg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4400" y="5410080"/>
            <a:ext cx="2286000" cy="106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parência e comportamento multiplataforma Me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8E50-AC28-434B-9568-2FC02D8B6667}" type="slidenum">
              <a:t>1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xempl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LookAnd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PlatformLookAnd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4222800" cy="181116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2971800" y="4648320"/>
            <a:ext cx="422280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5D17-AFD9-47CD-AB78-ADDB9F1B9541}" type="slidenum">
              <a:t>1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java.lang.Strin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6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texto = new String(“Exemplo 1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c = texto.charAt(1);     // c==‘x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o.compareTo(“exemplo 1”); //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[] dst = new char[5];     // dst={0,0,0,0,0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o.getChars(2,5,dst,1);    // dst={0,e,m,p,0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o.indexOf(‘o’,2);         // =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o.lastIndexOf(‘w’);       // ==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o = texto.toLowerCase();  // texto==“exemplo 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o = String.valueOf(12.5); // texto==“12.5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086-FCDA-48CF-B003-7CA49FFE32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Mnemônicos de Teclad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ência de teclas que permite usar pgm Java com teclado e sem m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o de usar mnemônico varia com a plataforma (no Windows é tecla A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setMenmonic(char) do componente deve ser cham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Button botao = new JButton("Info"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tao.setMnemonic('i'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ssionar (ALT + i) aciona o component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E896-6BE7-400D-9E16-F3EF836479F0}" type="slidenum">
              <a:t>1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Dicas Descritivas (Balões)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endas textuais que aparecem se o mouse permanecer por alguns segundos sobre um com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ó podem ter tamanho máximo de uma lin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 setToolTipText(String) do componente deve ser cham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ScrollBar speed = new JScrollBar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eed.setToolTipText("Mova para alterar velocidade"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5566-8E49-4408-8717-1B5E38C51B24}" type="slidenum">
              <a:t>1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aixas de Diálogo Padrã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asse JOptionPane oferece métodos que criam caixas de diálogo padr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anela de confirm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anela de entrada de tex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anela de mensag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anela genéric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3BF-2C2D-4A9D-96EB-E7F26A84F7DB}" type="slidenum">
              <a:t>1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showConfirmDialo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6189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criar Caixa de Diálogo do tip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/No/Can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m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OptionPane.showConfirmDialog(Component, Objec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primeiro argumento é o componente origem da caixa de diálogo-pode ser nul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segundo argumento pode ser String, componente ou objeto Ico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4057560"/>
            <a:ext cx="77724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OptionPane.showConfirmDialog(Component, Object, String, int, int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terceiro argumento é o título da caix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quarto informa os botões a serem apresentados - JOptionPane.{YES_NO_OPTION, YES_NO_CANCEL_OPTION)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quinto descreve o tipo de caixa para a seleção de ícone - JOptionPane.{ERROR_MESSAGE, INFORMATION_MESSAGE, PLAIN_MESSAGE, QUESTION_MESSAGE, WARNING_MESSAGE}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3610-6ED8-4F80-A4E7-A746B591B9EB}" type="slidenum">
              <a:t>1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showInputDialo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criar Caixa de Diálogo do tip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ada de dados com campo 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m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OptionPane.showInputDialog(Component, Objec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primeiro argumento é o componente origem da caixa de diálogo-pode ser nul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segundo argumento pode ser String, componente ou objeto Ico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4057560"/>
            <a:ext cx="77724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OptionPane. showInputDialog(Component, Object, String, int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terceiro argumento é o título da caix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quarto informa o tipo de caixa para a seleção de ícone - JOptionPane.{ERROR_MESSAGE, INFORMATION_MESSAGE, PLAIN_MESSAGE, QUESTION_MESSAGE, WARNING_MESSAGE}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3E5-F9C9-4E5F-9E02-99DC56C30617}" type="slidenum">
              <a:t>1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showMessageDialo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criar Caixa de Diálogo do tip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sa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m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OptionPane.showMessageDialog(Component, Objec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primeiro argumento é o componente origem da caixa de diálogo-pode ser nul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segundo argumento pode ser String, componente ou objeto Ico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4057560"/>
            <a:ext cx="77724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OptionPane. showMessageDialog(Component, Object, String, int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terceiro argumento é o título da caix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(o quarto informa o tipo de caixa para a seleção de ícone - JOptionPane.{ERROR_MESSAGE, INFORMATION_MESSAGE, PLAIN_MESSAGE, QUESTION_MESSAGE, WARNING_MESSAGE}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2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Diferença das outras: não retorna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175-280B-4E5A-915F-2D5362A413BB}" type="slidenum">
              <a:t>1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showOptionDialo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criar Caixa de Diálogo do tip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ção que combina recursos das anterio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m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OptionPane.showOptionDialog(Component, Object, String, int, int, Icon, Object[], Objec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 primeiro argumento é o componente origem da caixa de diálogo-pode ser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 segundo argumento pode ser String, componente ou objeto Ic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 terceiro argumento é o título da caix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 quarto informa os botões a serem apresentados - JOptionPane.{YES_NO_OPTION, YES_NO_CANCEL_OPTION))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o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o literal 0 para outros bot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 quinto informa o tipo de caixa para a seleção de ícone - JOptionPane.{ERROR_MESSAGE, INFORMATION_MESSAGE, PLAIN_MESSAGE, QUESTION_MESSAGE, WARNING_MESSAGE})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o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o literal 0 para outro íc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 sexto é o novo íc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 sétimo é um array de componentes para escolhas ao invés dos botões YES_NO_CANC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 oitavo indica qual o objeto do array que aparecerá selecion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5FB-9DEB-4F9E-AA30-C21851E13283}" type="slidenum">
              <a:t>1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JLis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onente que permite a seleção de um ou mais elementos de uma li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4052880" y="3052800"/>
            <a:ext cx="272880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01A-A5FD-486B-B930-EB4B8331AC09}" type="slidenum">
              <a:t>1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JList - Construtores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	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Lis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JList lst = new JList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List(Object[ ] lis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String dados[ ] = {“zero”, “um”, “dois”}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JList lstDados = new JList(dados)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C54C-D027-4BCE-AD40-0004A9D634ED}" type="slidenum">
              <a:t>1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JList - Alguns Métodos 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learSelectio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getSelectedIndex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[ ]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getSelectedIndice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getSelectedValu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isSelectedIndex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isSelectionEmpt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etVisibleRowCount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visibleRowCou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etSelectedIndex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617E-C084-460B-B570-164D622A03E2}" type="slidenum">
              <a:t>1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java.lang.StringBuffer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tor para ajustar capac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tor a partir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consu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de alte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ECC8-6553-4651-B243-A75C7D81912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JList - JScrollPane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List não implementa diretamente o scrolling (não exibe barra de rolag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mplementação através do uso de JScroll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String itens[ ] = {“lar”, “ama”, “vio”, “ros”}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Jlist lst = new Jlist(itens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JScrollPane scrPane = new JScrollPane(lst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BC05-B3D4-4079-A5B8-EC4010ABD0FE}" type="slidenum">
              <a:t>1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Box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erenciador que facilita arrumação de compo-nentes em ‘caixas’ verticais ou horizont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mensão da ‘caixa’ será função do tamanho e tipo do maior com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2819520" cy="23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580-7637-4F5D-9224-03DD313D4481}" type="slidenum">
              <a:t>1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Box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onentes são colocados em linha ou coluna ú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eito de eixos: especifica-se qual o eixo do sentido principal de gerenciamento (eixo x ou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rrumação dos compon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ixo X: esquerda para dire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ixo Y: cima para baix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979-93B2-4402-B835-D54A81B464DC}" type="slidenum">
              <a:t>1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Box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tru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BoxLayout (Container target, int ax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tribu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static int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X_AX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Y_AX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CB4-1B1A-47D6-9C50-7B892B2387AC}" type="slidenum">
              <a:t>1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Box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800600" cy="381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546-70CA-4174-81E9-2B0754CC0F68}" type="slidenum">
              <a:t>1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BoxLayout</a:t>
            </a:r>
            <a:br>
              <a:rPr sz="3800"/>
            </a:b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onentes serão dimensionados em função do tamanho (e limites de tamanho) dos maiores componentes de mesmo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inhamento dos componentes no ‘box’ será função do alinhamento horizontal ou vertical dos compon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linhamento centralizado: default para a maior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linhamento à esquerda: buttons, combo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boxes, labels e menu itens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85AD-0AD5-4FDB-9E0F-D226090E3819}" type="slidenum">
              <a:t>1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BoxLayout - Exempl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762012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2105-2578-419C-8FC5-40BF1E628BFB}" type="slidenum">
              <a:t>1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BoxLayout - Exempl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import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javax.swing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TestaBoxLayoutAlin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extends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JFram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BoxLayoutAlin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String titulo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uper(titul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JPanel pnlJLabels =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JPane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JPanel pnlJTextFields =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JPane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JPanel pnlPrincipal =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JPanel();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JLabel lblUrl   =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JLabel(</a:t>
            </a:r>
            <a:r>
              <a:rPr b="0" lang="pt-BR" sz="2000" spc="-1" strike="noStrike">
                <a:solidFill>
                  <a:srgbClr val="c10000"/>
                </a:solidFill>
                <a:latin typeface="Courier New"/>
              </a:rPr>
              <a:t>"URL"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JLabel lblLogin =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JLabel(</a:t>
            </a:r>
            <a:r>
              <a:rPr b="0" lang="pt-BR" sz="2000" spc="-1" strike="noStrike">
                <a:solidFill>
                  <a:srgbClr val="c10000"/>
                </a:solidFill>
                <a:latin typeface="Courier New"/>
              </a:rPr>
              <a:t>"Login"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JLabel lblSenha =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JLabel(</a:t>
            </a:r>
            <a:r>
              <a:rPr b="0" lang="pt-BR" sz="2000" spc="-1" strike="noStrike">
                <a:solidFill>
                  <a:srgbClr val="c10000"/>
                </a:solidFill>
                <a:latin typeface="Courier New"/>
              </a:rPr>
              <a:t>"Senha"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JTextField txtUrl   =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JTextField(</a:t>
            </a:r>
            <a:r>
              <a:rPr b="0" lang="pt-BR" sz="2000" spc="-1" strike="noStrike">
                <a:solidFill>
                  <a:srgbClr val="c20000"/>
                </a:solidFill>
                <a:latin typeface="Courier New"/>
              </a:rPr>
              <a:t>15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JTextField txtLogin =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JTextField(</a:t>
            </a:r>
            <a:r>
              <a:rPr b="0" lang="pt-BR" sz="2000" spc="-1" strike="noStrike">
                <a:solidFill>
                  <a:srgbClr val="c20000"/>
                </a:solidFill>
                <a:latin typeface="Courier New"/>
              </a:rPr>
              <a:t>10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JTextField txtSenha =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JTextField(</a:t>
            </a:r>
            <a:r>
              <a:rPr b="0" lang="pt-BR" sz="2000" spc="-1" strike="noStrike">
                <a:solidFill>
                  <a:srgbClr val="c20000"/>
                </a:solidFill>
                <a:latin typeface="Courier New"/>
              </a:rPr>
              <a:t>6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731-40C5-4517-BE6E-13B8D262C7EF}" type="slidenum">
              <a:t>1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BoxLayout - Exempl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blUrl.setAlignmentX(JComponent.RIGHT_ALIGNME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blLogin.setAlignmentX(JComponent.RIGHT_ALIGNME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blSenha.setAlignmentX(JComponent.RIGHT_ALIGNME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nlJLabels.setLayout  (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BoxLayout(pnlJLabels, BoxLayout.Y_AXIS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nlJTextFields.setLayout (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 B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oxLayout(pnlJTextFields,BoxLayout.Y_AXIS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nlPrincipal.setLayout (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BoxLayout(pnlPrincipal, BoxLayout.X_AXIS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nlJLabels.add(lblUrl);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nlJLabels.add(lblLogin);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nlJLabels.add(lblSenh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nlJTextFields.add(txt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nlJTextFields.add(txtLogi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nlJTextFields.add(txtSenh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22F-B73E-4F63-B45C-6DFDDFA1BDA6}" type="slidenum">
              <a:t>1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52280" y="4343400"/>
            <a:ext cx="822960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BoxLayout - Exempl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nlPrincipal.add(pnlJLabe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nlPrincipal.add(pnlJTextField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etContentPane(pnlPrincip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a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etVisible(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tru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class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TestaBoxLayoutAli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public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static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c00000"/>
                </a:solidFill>
                <a:latin typeface="Courier New"/>
              </a:rPr>
              <a:t>void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main(String args[]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BoxLayoutAlin frame = </a:t>
            </a:r>
            <a:r>
              <a:rPr b="0" lang="pt-BR" sz="2000" spc="-1" strike="noStrike">
                <a:solidFill>
                  <a:srgbClr val="0000c0"/>
                </a:solidFill>
                <a:latin typeface="Courier New"/>
              </a:rPr>
              <a:t>new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BoxLayoutAlin (</a:t>
            </a:r>
            <a:r>
              <a:rPr b="0" lang="pt-BR" sz="2000" spc="-1" strike="noStrike">
                <a:solidFill>
                  <a:srgbClr val="c10000"/>
                </a:solidFill>
                <a:latin typeface="Courier New"/>
              </a:rPr>
              <a:t>"Testa Box"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F42-C2BE-444B-80FD-FA90665E5B9D}" type="slidenum">
              <a:t>1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java.lang.StringBuffer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6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Buffer buf = new StringBuffer(“Exemplo 2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c = buf.charAt(1);     // c==‘x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.capacity();             // ==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.append(01).append(‘0’); // buf==“Exemplo 210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.setCharAt(0,‘e’);       // buf==“exemplo 210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.reverse();              // buf==“012 olpmex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92E-96A8-474E-A6E8-893284F0294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java.lang.System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pode ser instanci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ê acesso ao sistema oper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e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entrada, saída e saída de e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sso a propriedades do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C731-4FDA-4838-9B29-EF84951527F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java.lang.System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gc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“olá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getProperty(“user.name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getProperty(“java.class.path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getProperty(“os.name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runFinalizersOnExit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in.rea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5FB-873C-4DF5-BFEF-CA3547AA254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java.lang.Math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pode ser instanci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ê funções matemáticas bás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E69-B69E-42B9-BC0A-B51C1352B9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Modularidade em Java:</a:t>
            </a:r>
            <a:br>
              <a:rPr sz="3800"/>
            </a:b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Pacote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pacote é um conjunto de classes e outros pac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otes permitem a criação de espaços de nomes, além de mecanismo de controle de ac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F01-5F34-452F-B36C-EF3DB096F7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java.lang.Math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in(3*Math.PI/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asin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exp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pow(Math.E, 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9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max(2,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min(2,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A7E-6138-4115-AF71-51288EB7B06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java.lang.Math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az parte da biblioteca padr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árias Funções Matemá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trigonométric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logarítmicas / exponencia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rredondamen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raizes / potênci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números aleatóri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constante PI e 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EDCC-7BC4-454F-84ED-491743171AC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java.lang.Math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lass valorP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ublic static void main( String p[]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ystem.out.println("Valor de PI "+Math.PI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D20-B1B5-4FF2-A5E0-53FDB8B2569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Interface Gráfica em Java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ava possui um pacote de classes para criação e manipulação de interfaces gráficas chamado de AWT (Abstract Window Toolk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AWT é composto de classes que definem diversos componentes necessários na construção de uma interface 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8594-F869-44E6-9AF4-962575CF9EF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3440" y="304560"/>
            <a:ext cx="85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lementos de uma interface gráfica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ontain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janela, painel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ocal onde são adicionados os componentes ou outros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container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on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botões, labels, listbox, menus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ciador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Layou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bjeto responsável pelo posicionamento dos componentes inseridos num determinado contain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D8D0-A893-4BE4-BE01-F3B6FE21E79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4456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209680" y="1828800"/>
          <a:ext cx="4772160" cy="47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828800"/>
                    <a:ext cx="4772160" cy="47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33520" y="3657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06640" y="2676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10640" y="2666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66920" y="4614840"/>
            <a:ext cx="22860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Layou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38720" y="3319560"/>
            <a:ext cx="22096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Layou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/>
          <p:nvPr/>
        </p:nvCxnSpPr>
        <p:spPr>
          <a:xfrm flipV="1">
            <a:off x="4038120" y="2971440"/>
            <a:ext cx="3745800" cy="24480"/>
          </a:xfrm>
          <a:prstGeom prst="straightConnector1">
            <a:avLst/>
          </a:prstGeom>
          <a:ln w="28440">
            <a:solidFill>
              <a:srgbClr val="d71905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endCxn id="153" idx="3"/>
          </p:cNvCxnSpPr>
          <p:nvPr/>
        </p:nvCxnSpPr>
        <p:spPr>
          <a:xfrm flipH="1" flipV="1">
            <a:off x="1523160" y="3885840"/>
            <a:ext cx="686520" cy="329040"/>
          </a:xfrm>
          <a:prstGeom prst="straightConnector1">
            <a:avLst/>
          </a:prstGeom>
          <a:ln w="28440">
            <a:solidFill>
              <a:srgbClr val="d71905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endCxn id="154" idx="3"/>
          </p:cNvCxnSpPr>
          <p:nvPr/>
        </p:nvCxnSpPr>
        <p:spPr>
          <a:xfrm flipH="1">
            <a:off x="1933200" y="2895120"/>
            <a:ext cx="1504080" cy="10440"/>
          </a:xfrm>
          <a:prstGeom prst="straightConnector1">
            <a:avLst/>
          </a:prstGeom>
          <a:ln w="28440">
            <a:solidFill>
              <a:srgbClr val="d71905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BA28-F9E9-4DB1-B4D9-EE249A679B8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Hierarquia de classes AW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406520" y="1828800"/>
            <a:ext cx="6870240" cy="3170160"/>
            <a:chOff x="1406520" y="1828800"/>
            <a:chExt cx="6870240" cy="3170160"/>
          </a:xfrm>
        </p:grpSpPr>
        <p:sp>
          <p:nvSpPr>
            <p:cNvPr id="163" name=""/>
            <p:cNvSpPr/>
            <p:nvPr/>
          </p:nvSpPr>
          <p:spPr>
            <a:xfrm>
              <a:off x="3966480" y="1828800"/>
              <a:ext cx="1401840" cy="487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042800" y="2743200"/>
              <a:ext cx="1203840" cy="507960"/>
              <a:chOff x="4042800" y="2743200"/>
              <a:chExt cx="1203840" cy="507960"/>
            </a:xfrm>
          </p:grpSpPr>
          <p:sp>
            <p:nvSpPr>
              <p:cNvPr id="165" name=""/>
              <p:cNvSpPr/>
              <p:nvPr/>
            </p:nvSpPr>
            <p:spPr>
              <a:xfrm>
                <a:off x="4088520" y="2743200"/>
                <a:ext cx="1158120" cy="487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042800" y="2852280"/>
                <a:ext cx="118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Contain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3112920" y="3596760"/>
              <a:ext cx="1096920" cy="504720"/>
              <a:chOff x="3112920" y="3596760"/>
              <a:chExt cx="1096920" cy="50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3112920" y="3596760"/>
                <a:ext cx="1096920" cy="488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15880" y="3702600"/>
                <a:ext cx="74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Pa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287680" y="3596760"/>
              <a:ext cx="1158120" cy="510480"/>
              <a:chOff x="5287680" y="3596760"/>
              <a:chExt cx="1158120" cy="510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287680" y="3596760"/>
                <a:ext cx="1158120" cy="487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36640" y="3708360"/>
                <a:ext cx="106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Windo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3234960" y="4449960"/>
              <a:ext cx="914040" cy="469800"/>
              <a:chOff x="3234960" y="4449960"/>
              <a:chExt cx="914040" cy="469800"/>
            </a:xfrm>
          </p:grpSpPr>
          <p:sp>
            <p:nvSpPr>
              <p:cNvPr id="174" name=""/>
              <p:cNvSpPr/>
              <p:nvPr/>
            </p:nvSpPr>
            <p:spPr>
              <a:xfrm>
                <a:off x="3234960" y="4449960"/>
                <a:ext cx="914040" cy="426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270240" y="452088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Appl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33400" y="4449960"/>
              <a:ext cx="1010160" cy="445680"/>
              <a:chOff x="5333400" y="4449960"/>
              <a:chExt cx="1010160" cy="445680"/>
            </a:xfrm>
          </p:grpSpPr>
          <p:sp>
            <p:nvSpPr>
              <p:cNvPr id="177" name=""/>
              <p:cNvSpPr/>
              <p:nvPr/>
            </p:nvSpPr>
            <p:spPr>
              <a:xfrm>
                <a:off x="5368320" y="4449960"/>
                <a:ext cx="975240" cy="426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333400" y="4496760"/>
                <a:ext cx="959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Fra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4698000" y="3231000"/>
              <a:ext cx="0" cy="24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661920" y="3474720"/>
              <a:ext cx="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61920" y="3474720"/>
              <a:ext cx="219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56120" y="3474720"/>
              <a:ext cx="0" cy="12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661920" y="4084200"/>
              <a:ext cx="0" cy="36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856120" y="4084200"/>
              <a:ext cx="0" cy="36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98000" y="231624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54800" y="4389480"/>
              <a:ext cx="1218960" cy="6094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PP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405120" y="4389480"/>
              <a:ext cx="1706400" cy="609480"/>
            </a:xfrm>
            <a:custGeom>
              <a:avLst/>
              <a:gdLst>
                <a:gd name="textAreaLeft" fmla="*/ 360 w 1706400"/>
                <a:gd name="textAreaRight" fmla="*/ 1707120 w 17064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PLICA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406520" y="2743200"/>
              <a:ext cx="1157760" cy="507960"/>
              <a:chOff x="1406520" y="2743200"/>
              <a:chExt cx="1157760" cy="507960"/>
            </a:xfrm>
          </p:grpSpPr>
          <p:sp>
            <p:nvSpPr>
              <p:cNvPr id="189" name=""/>
              <p:cNvSpPr/>
              <p:nvPr/>
            </p:nvSpPr>
            <p:spPr>
              <a:xfrm>
                <a:off x="1406520" y="2743200"/>
                <a:ext cx="1157760" cy="487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63760" y="285228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Butt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75960" y="3231000"/>
              <a:ext cx="243720" cy="243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5960" y="2316240"/>
              <a:ext cx="243720" cy="243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016000" y="2560320"/>
              <a:ext cx="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16000" y="2560320"/>
              <a:ext cx="26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2686320" y="2743200"/>
              <a:ext cx="1158120" cy="507960"/>
              <a:chOff x="2686320" y="2743200"/>
              <a:chExt cx="1158120" cy="507960"/>
            </a:xfrm>
          </p:grpSpPr>
          <p:sp>
            <p:nvSpPr>
              <p:cNvPr id="196" name=""/>
              <p:cNvSpPr/>
              <p:nvPr/>
            </p:nvSpPr>
            <p:spPr>
              <a:xfrm>
                <a:off x="2686320" y="2743200"/>
                <a:ext cx="1158120" cy="487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776320" y="2852280"/>
                <a:ext cx="83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Lis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V="1">
              <a:off x="3295800" y="2560320"/>
              <a:ext cx="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49480" y="293508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98000" y="2560320"/>
              <a:ext cx="268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6283080" y="2743200"/>
              <a:ext cx="1993680" cy="507960"/>
              <a:chOff x="6283080" y="2743200"/>
              <a:chExt cx="1993680" cy="507960"/>
            </a:xfrm>
          </p:grpSpPr>
          <p:sp>
            <p:nvSpPr>
              <p:cNvPr id="202" name=""/>
              <p:cNvSpPr/>
              <p:nvPr/>
            </p:nvSpPr>
            <p:spPr>
              <a:xfrm>
                <a:off x="6283080" y="2743200"/>
                <a:ext cx="1993680" cy="487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365880" y="2852280"/>
                <a:ext cx="1837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TextCompon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 flipV="1">
              <a:off x="7380000" y="2560320"/>
              <a:ext cx="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34080" y="4145400"/>
              <a:ext cx="243720" cy="243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39880" y="4145400"/>
              <a:ext cx="243720" cy="243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E34-6552-48D6-8402-5CAFCA7F047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800" spc="-1" strike="noStrike">
                <a:solidFill>
                  <a:srgbClr val="a50021"/>
                </a:solidFill>
                <a:latin typeface="Arial"/>
              </a:rPr>
              <a:t>Container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F3D0-583D-4E6D-9A40-A9402F6997A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java.awt.Componen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21360" cy="399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ontainer getParen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setEnabled(boolean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setVisible(boolean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setForeground(Color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setBackground(Color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setFont(Font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setLocation(int x, int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setSize(Dimension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repain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paint(Graphics 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Graphics getGraphic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33B-3F88-4677-9706-36A6E974762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java.awt.Componen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25360" y="1981080"/>
            <a:ext cx="7807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add(PopupMenu pop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remove(MenuComponent pop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addFocusListener( FocusListener 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addKeyListener(  KeyListener 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addMouseListener( MouseListener 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addMouseMotionListener( MouseMotionListener 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F62-B48E-4BE1-A2AF-BA85025D17F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Implementação de Pacote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otes são implementados como dire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arquivos das classes pertencentes ao pacote devem ficar em seu diret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quias de pacotes são construídas através de hierarquias de dire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A3C-8A5B-497F-92D0-EBD6E42362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java.awt.Container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06160" y="1600200"/>
            <a:ext cx="6289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public Component add(Component co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omponent add(Component comp, int ind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int getComponentCoun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omponent[] getComponent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omponent getComponentAt(int x, int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boolean isAncestorOf(Component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public void setLayout(LayoutManager mg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907-38C0-45B8-B90E-16F2CFC0A46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java.awt.Window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presenta uma janela do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addWindowListener(WindowListener 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pack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show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toFron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toBack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86B0-8BDF-4A21-AB39-CDD1CEFB0C2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java.awt.Frame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ende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java.awt.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presenta uma jan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ssui título e bo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de possuir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01AF-76A3-4764-9EFF-3D31DC6AE34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java.awt.Frame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388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setTitle(String tit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setIconImage(Image im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setMenuBar(MenuBar m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remove(MenuComponent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setResizable(boolean 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ynchronized void disp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B8B-ED73-4998-9166-7B7625409E4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Frame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376440" y="2438280"/>
            <a:ext cx="2883240" cy="257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95E-B3AF-45D7-A23E-5EA5354A895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2536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class ExemploJane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static void main (String p[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Janela janelaPrincipal = new Janela("Oi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janelaPrincipal.mostra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Frame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80E-C733-4299-B746-C462321DFFA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125360" y="1676520"/>
            <a:ext cx="763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class Janela extends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// Construtor da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Janela (String s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hamando o construtor da supercl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uper (str)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his.setSize(500,500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his.setBackground(Color.b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Frame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3D2-1AE5-444F-BECE-7B6AD3262DE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11200" y="1829880"/>
            <a:ext cx="7128000" cy="41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// Método mostrar de Jan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void mostrar()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his.pac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his.setVisible(tr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Frame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10A0-82E1-4F1C-8EB5-D935B6B8DD9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8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800" spc="-1" strike="noStrike">
                <a:solidFill>
                  <a:srgbClr val="a50021"/>
                </a:solidFill>
                <a:latin typeface="Arial"/>
              </a:rPr>
              <a:t>Panel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ve ser incluído em outro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 mesma forma que um frame, o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Panel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ermite a inserção de elementos grá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de incluir outros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juda na organização da jan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conté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presenta um grupo de e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0FE-A4B8-4A8D-AA35-7BDDE866538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800" spc="-1" strike="noStrike">
                <a:solidFill>
                  <a:srgbClr val="a50021"/>
                </a:solidFill>
                <a:latin typeface="Arial"/>
              </a:rPr>
              <a:t>Panel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public Panel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public Panel(LayoutManager l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Panel p = new Panel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rame f = new Frame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.add(p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4CF-66DF-4960-9E60-50070FF2AEB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mpacotamento de Classe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criarmos uma classe como pertencente a um pacote, deve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clará-la em um arquivo dentro do diretório que representa o paco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clarar, na primeira linha, que a classe pertence ao paco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682-033F-46BF-ADFB-65F05E4BBA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Componentes 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lementos gráficos da interf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botões, texto, rótulos</a:t>
            </a:r>
            <a:r>
              <a:rPr b="0" i="1" lang="pt-BR" sz="27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ixas de checagem</a:t>
            </a:r>
            <a:r>
              <a:rPr b="0" i="1" lang="pt-BR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listas, listas </a:t>
            </a:r>
            <a:r>
              <a:rPr b="0" i="1" lang="pt-BR" sz="2700" spc="-1" strike="noStrike">
                <a:solidFill>
                  <a:srgbClr val="000000"/>
                </a:solidFill>
                <a:latin typeface="Arial"/>
              </a:rPr>
              <a:t>dropdown, Canvas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, etc</a:t>
            </a:r>
            <a:r>
              <a:rPr b="0" i="1" lang="pt-BR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do componente tem que ser adicionado a u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ontain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través do seu método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5AA7-FF0F-42DD-8802-FF66406E6D8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Métodos de Componentes 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ar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void setForeground(Color c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void setBackground(Color c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void setFont (Font f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void setCursor(Cursor c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E3F1-5545-4686-9932-E1B529F4CA8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Métodos de Componentes 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77840" y="1600200"/>
            <a:ext cx="792504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icio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void setLocation(int x, int y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man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void setSize(int width, int heigh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void setBounds(int x, int y, int width, int heigh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void repaint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void setVisible(Boolean 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E3A-4FD5-4B89-9D2C-44FC5C51466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Label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Label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Label(Str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Label(String label, int alignme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inal static int LEF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inal static int CEN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inal static int RIGH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5E9E-3A77-45C9-99F6-36355976F4C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Label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étodos para manipular 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String getText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void setText(String labe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étodos para alinh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void setAlignment(int alignmen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9E7-3E66-4173-A785-3883EE45DC5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Label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Frame frame = new Fram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...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Label lb = new Label (“Rótulo”);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frame.add(b);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EA8-7B11-475C-8E01-2A7C044F7BC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Cursor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25360" y="12949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Cursor(int typ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inal static int DEFAULT_CURS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inal static int CROSSHAIR_CURS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inal static int TEXT_CURS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inal static int WAIT_CURS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inal static int HAND_CURS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inal static int MOVE_CURS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inal static int N_RESIZE_CURS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1313-FD40-4222-A334-9E6F53ED784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Button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Button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Button(String nom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e dos Bot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String getLabel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void setLabel (String nom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2405-06AE-4165-BDC3-11792199190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Button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65376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class ExGUI extends Applet {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utton b1 = new Button(“Ok”);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utton b2 = new Button(“Fim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dd(b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dd(b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419720" y="4114800"/>
            <a:ext cx="4284720" cy="23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CCA-78C9-42AB-AB0C-6DC2EA965D5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TextComponen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para busca do 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String getText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void setText(String texto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para texto read-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void setEditable(boolean estado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boolean isEditable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E51-4BB3-48AD-B90D-E4C8DD7C6E0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mpacotamento de Classe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/*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 classe Ponto pertence ao pacote MeuPaco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O arquivo Ponto.java deve estar dentro do diretório MeuPaco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ackage MeuPacot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lass Ponto 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AE5-DA48-4D09-A58D-E512B3BD61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TextField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extField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extField(int colun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extField(String tex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extField(String texto, int colun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ma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setColumns(int colun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cter de 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setEchoChar(char c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E40-C695-42CB-802E-F64174D959E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TextField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Frame frame = new Fram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...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TextField t1,t2;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t1 = new TextField(40);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t2 = new TextField(“tel.”,9);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frame.add(t1);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frame.add(t2);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67A-A165-4F0F-ACC0-FF69F458BA5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TextArea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ixa de texto de múltiplas lin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tatic final int SCROOLBARS_BO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tatic final int SCROOLBARS_HORIZONTAL_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tatic final int SCROOLBARS_N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tatic final int SCROOLBARS_VERTICAL_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A3F7-B276-41DE-ACF7-BB35F4D3820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TextArea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08000" y="15238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extArea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extArea(int linhas, int colun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extArea(String tex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extArea(String text, int linhas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nt colun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extArea(String text, int linhas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nt colunas, int barraDeScroll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B6C-FB5A-49FC-93EB-F7E6392E03A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TextArea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indo 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insert(String texto, int posiçã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append(String tex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replaceRange(String texto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nt posicaoInicio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nt posicaoFi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ma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setRows(int linh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setColumns(int colun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A64F-4CEA-4214-BCDD-1F604DA38C8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266840" y="1676520"/>
            <a:ext cx="706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crollba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de ser utilizada isoladamente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lores gradua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530360" y="3124080"/>
            <a:ext cx="6629400" cy="28116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TextArea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270-C1DF-478C-B013-836D8B71D3ED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008000" y="1981080"/>
            <a:ext cx="78548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Texto extends Apple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TextArea 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crollbar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t = new TextArea("Digite aqui",5,4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 = new Scrollbar(Scrollbar.VERTICAL,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1,0,25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TextArea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E02-2DCE-4257-8A43-FA88246CAFBF}" type="slidenum">
              <a:t>5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Lis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ermite seleção de elementos de uma lista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List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List(int linha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List(int linhas, boolean multiplaSelecao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387-0C9A-443D-AC62-F01700649F6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Lis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ndo I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add(String ite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insert(String item, int indic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remove(int posica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removeAll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tring getItem(int indic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tring[] getItems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replaceItem(String novo, int indic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CE1-286D-4BA1-9CE3-3BDA6831CAC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Lis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25360" y="13716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ndo itens 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remove(int posica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remove(String ite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ion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tring getSelectedItem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tring[] getSelectedItems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nt getSelectedIndex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nt[] getSelectedIndexes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select(int posica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deselect(int posica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B505-3FEB-468B-B698-FCF10AB9A44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Pacotes: Controle de Acesso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mos ter membros package, além de públicos e priv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membro package só pode ser acessado por classes declaradas no mesmo pacote da classe que declara esse memb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do omitimos o modificador de controle de acesso, estamos dizendo que o membro é do tipo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C472-AE7D-4ACE-A255-70582C4806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hoice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55520" y="18288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 seleção de elementos de uma lista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Choice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ndo I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add(String ite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insert(String item, int indic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remove(int posica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removeAll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tring getItem(int indic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E95-6433-4FF7-BA65-8A21EA28B12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hoice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pulando It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int getItemCount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iona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String getSelectedItem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int getSelectedIndex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void select(int posicao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void select(String ite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351-156F-484F-9D9A-D61E5A6270F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List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 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hoice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928880" y="2590920"/>
            <a:ext cx="6019560" cy="26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42E-FA96-463F-85FD-3579AD09BCB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266840" y="1905120"/>
            <a:ext cx="6189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Lista extends Apple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ist 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hoice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 = new List(3,fals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 = new Choic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.addItem("um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.addItem("dois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.addItem("tres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.addItem("um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.addItem("dois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.addItem("tres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c);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List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 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hoice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67C-2808-459E-9B85-E49D1F51C5C2}" type="slidenum">
              <a:t>6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heckbox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usado como um botão liga/desliga (“toggle”) ou agrupado na forma “radio”, sob u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heckboxGroup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Checkbox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Checkbox(String Label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Checkbox(String Label, boolean estad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Checkbox(String nome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boolean estado,CheckboxGroup grup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1DBC-0808-4F34-A010-4993896AFD3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heckbox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r n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tring getLabel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setLabel(String nom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r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boolean getState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setState(boolean estad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up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setCheckboxGroup(CheckboxGroup grup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EEF4-DF48-4720-B4AE-1EC79A9BE03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heckboxGroup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a função é agrupar check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CheckboxGroup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r sele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void setSelectedCheckbox(Checkbox checkbox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AD66-2A2C-44C7-B1EC-A90D3B4AEAC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758960" y="2819520"/>
            <a:ext cx="5943600" cy="1558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heckboxGroup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D30B-76F4-49B1-9D60-BF49C0E02658}" type="slidenum">
              <a:t>6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36680" y="1905120"/>
            <a:ext cx="738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Botoes extends Apple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heckboxGroup cb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heckbox b = new Checkbox("Liga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bg = new CheckboxGrou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heckbox b1 = new Checkbox("um",cbg,tr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b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heckbox b2 = new Checkbox("dois",cbg,fals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b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heckboxGroup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62A-2CDA-4182-BAF0-3568F59A5480}" type="slidenum">
              <a:t>6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Usando Menu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es de um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enuIte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enu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enuB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enuBa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é colocado num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Fra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enu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é colocado num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enuB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enuIte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é colocado num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e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8D7-395F-4A99-8114-2F859D67689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Importação de Pacote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usarmos uma classe que está dentro de um pacote precisamos referenciar o nome desse pac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java.awt.buttom a = new java.awt.button(“Alo”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mos usar o comand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 que permite usarmos somente o nome da clas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buttom a = new button(“Alo”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516-0534-4E5D-96B6-812F6C7C31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4267080" cy="42526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MenuBar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750A-88B6-4CD9-810B-61637BBBE9D9}" type="slidenum">
              <a:t>7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MenuItem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MenuItem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MenuItem(String nom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ndo nome dos itens do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String getLabel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setLabel(String nom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lit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boolean setEnabled(boolean condica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8D18-801B-4727-B532-E6B72329BCC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Menu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Menu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Menu(String nom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ndo i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MenuItem add(MenuItem ite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add(String nomeIte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insert (MenuItem item, int indic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insert (String nomeItem, int indic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addSeparator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void insertSeparator(int index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3B42-552D-4900-B6B9-A9C10E169CC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MenuBar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 ser adicionado a um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ravés do métod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tMenuB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ó pode ter um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enu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enuBar(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cionando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Menu add (Menu 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F454-CE86-4E59-B7F6-23FD2AC1EEC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4267080" cy="42526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MenuBar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9555-667C-45EB-8BBA-47ACECE1BA57}" type="slidenum">
              <a:t>7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33520" y="1752480"/>
            <a:ext cx="91328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class Cardapio extends Appl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rame fr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enuBar barraDeMen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enu menu1, menu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rame = new Frame("Exemplo de Menu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rame.setSize(300,3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enu1 = new Menu("Arquiv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enu1.add(new MenuItem("Abrir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enu1.add(new MenuItem("Salvar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MenuBar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93A4-EA90-4F53-96B9-6BA3A29E2289}" type="slidenum">
              <a:t>7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055520" y="1371600"/>
            <a:ext cx="86108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enu2 = new Menu("Editar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enu2.add(new MenuItem("Copiar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enu2.add(new MenuItem("Colar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arraDeMenu = new MenuBa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arraDeMenu.add(menu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barraDeMenu.add(menu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rame.setMenuBar(barraDeMenu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rame.show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MenuBar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832-5106-4921-A9FA-9A792301704D}" type="slidenum">
              <a:t>7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MenuBar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de ser adicionada uma linha separadora com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addSeparator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diferenciar o menu de Ajuda (à direita), usa-se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setHelpMenu(Menu)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2A7-767B-45C0-AF23-9B9BA5F32A7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Fonte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tru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public Font(String nome, int estilo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int taman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nome: </a:t>
            </a: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Serif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SansSerif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Monospaced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Dialog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pt-BR" sz="2700" spc="-1" strike="noStrike">
                <a:solidFill>
                  <a:srgbClr val="000000"/>
                </a:solidFill>
                <a:latin typeface="Courier New"/>
              </a:rPr>
              <a:t>DialogInpu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stilo: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ont.BOLD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ont.ITALIC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ont.PLANE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 ou combinação dest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Por ex.: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ont.BOLD | Font.ITA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tamanho: tamanho da fon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193-C135-4686-A2C7-69F061C648B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Fonte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ontes podem ser associadas a quaisquer componentes. E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ont f = new Font (“SansSerif”, Font.ITALI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1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Label lb = new Label (“Teste de Fonte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71905"/>
                </a:solidFill>
                <a:latin typeface="Courier New"/>
              </a:rPr>
              <a:t>lb.setFont (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B716-2548-44F7-9784-74B81DEF801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Pacote Padrão </a:t>
            </a: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lang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centrais da lingua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asses para tipos básic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tringBuf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row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7ED-FF03-47D3-9589-79BF162AD6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Componente 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anvas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410080" cy="3780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725840" y="15991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Área para desen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05A-B42B-4D1F-8D20-72FBB6E04466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914400" y="1828800"/>
            <a:ext cx="7238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lass Tela extends Canva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mage imag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void setImage(Image imagem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his.imagem = imag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void paint(Graphics g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g.drawImage(imagem,10,10,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anvas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A19-79E0-42BF-99BB-789BFF78320F}" type="slidenum">
              <a:t>8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055520" y="1752480"/>
            <a:ext cx="7596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class Desenho extends Appl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mage imag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la tel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magem = getImage(getDocumentBase(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"duke.gi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la = new Tel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la.setImage(image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la.setBackground(Color.lightGra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la.setSize(200,2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dd(tel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Exemplo (</a:t>
            </a: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Canvas</a:t>
            </a: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8AC4-041D-4D7C-97A0-7082BB19EC72}" type="slidenum">
              <a:t>8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Bibliografia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50400" y="1829880"/>
            <a:ext cx="7083720" cy="2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enda em 21 dias JAVA 1.2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a 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ura Lem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gers Cadenhe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0858-6C10-4616-BA1F-EB369B1EE67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Gerentes</a:t>
            </a: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 de </a:t>
            </a:r>
            <a:r>
              <a:rPr b="1" i="1" lang="pt-BR" sz="3800" spc="-1" strike="noStrike">
                <a:solidFill>
                  <a:srgbClr val="a50021"/>
                </a:solidFill>
                <a:latin typeface="Arial"/>
              </a:rPr>
              <a:t>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lam a forma de posicionamento dos elementos em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ntain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ode estar associado a um gerente de layout (interface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LayoutManag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ayout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default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Panel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Applet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default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Dialog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Card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GridBag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E8EC-F5E0-4BAE-B836-7E1A1B97E60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a50021"/>
                </a:solidFill>
                <a:latin typeface="Arial"/>
              </a:rPr>
              <a:t>Gerentes de </a:t>
            </a:r>
            <a:r>
              <a:rPr b="1" i="1" lang="pt-BR" sz="3800" spc="-1" strike="noStrike">
                <a:solidFill>
                  <a:srgbClr val="a50021"/>
                </a:solidFill>
                <a:latin typeface="Arial"/>
              </a:rPr>
              <a:t>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983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associar um gerente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ayou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rame frame = new Frame(“Janela Aplicacao”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Panel painel1 = new Panel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painel1.setLayout(null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ourier New"/>
              </a:rPr>
              <a:t>Panel painel2 = new Panel(new GridLayout()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828-F20F-472D-B377-E49DD660EE2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Border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973320" cy="37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590-1EE6-4DEA-8F2E-741EC3121A89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java.awt.Border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rderLayou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rderLayout(int espaçoH, int espaço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tatic final int NO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tatic final int S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tatic final int 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tatic final int 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tatic final int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1A8-9199-4729-BE03-05B71E296FE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Exemplo 1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BorderLayoutExamp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Instancia um novo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BorderLayout é o "default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rame frame = new Fra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 butt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Instancia um novo bot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 = new Button("Nort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onfigura a fonte do bot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.setFont(new Font("Arial", Font.PLAIN, 6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Adiciona o botão ao "frame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frame.add("North”, butt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7E8-792D-4D4F-AA5F-489967FF897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Exemplo 1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675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 = new Button("Sul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.setFont(new Font("Arial", Font.BOLD, 18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rame.add("South”, butt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 = new Button("Lest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.setFont(new Font("Arial", Font.ITALIC, 20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rame.add("East”, butt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 = new Button("Oest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.setFont(new Font("Arial", Font.PLAIN, 2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rame.add("West”, butt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ECC-10F9-4307-AEF6-0365ECAD8DF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Arial"/>
              </a:rPr>
              <a:t>java.lang.Objec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r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tima superclasse de todas as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r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comportamento bá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r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boolean equals(Object ob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r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native int hash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r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ring toString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r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 void finalize() throws Throw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r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 native Object clone() th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r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oneNotSupported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5F7-6086-4E49-B8EB-3F92749127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Exemplo 1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 = new Button("Centro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utton.setFont(new Font("Arial", Font.ITALIC |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Font.BOLD, 24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rame.add("Center”, butt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rame.pa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rame.show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8AD9-BF21-42E6-9A78-5DEA8C21A7D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java.awt.Border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479680" y="1762200"/>
            <a:ext cx="490536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D7D5-CEBD-4B51-9775-60E4010A8383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Exemplo 2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BorderLayoutExamp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BorderLayout é o "default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rame frame = new Frame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d71905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d71905"/>
                </a:solidFill>
                <a:latin typeface="Courier New"/>
              </a:rPr>
              <a:t>frame.setLayout(new BorderLayout(10,100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Mesmos comandos do exemplo anterior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0C9-AAD9-43A9-BCA9-FB6EDC35EB6E}" type="slidenum">
              <a:t>9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Flow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109960" y="2133720"/>
            <a:ext cx="5635440" cy="265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B35-92BB-40CA-AAAD-BC8E9936E318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java.awt.Flow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4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lowLayou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lowLayout(int alinha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lowLayout(int alinhamento, int espaçoH, int espaço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4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tatic final int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tatic final int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static final in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4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ét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setAlignment(int alinha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1E7F-4896-4F45-A144-D05DEB542BF3}" type="slidenum">
              <a:t>9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Exemplo 3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8483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pple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FlowLayoutApplet extends Apple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Adiciona um bot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Button("Botão 1!!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Adiciona um rót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Label("Rótulo!!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Adiciona um bot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Button("Botão 2!!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D978-B3BF-4920-8D1E-9755D0AC52EB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Flow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2390760" y="1676520"/>
            <a:ext cx="5162400" cy="417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594-C522-4550-8B73-ED3367786C92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Arial"/>
              </a:rPr>
              <a:t>Exemplo 4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mport java.applet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class FlowLayoutApplet extends Apple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init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onfigura o "layout" do "applet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d71905"/>
                </a:solidFill>
                <a:latin typeface="Courier New"/>
              </a:rPr>
              <a:t>setLayout(new FlowLayout(FlowLayout.LEFT, 10, 100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Button("Botão 1!!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Label("Rótulo 1!!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TextField("Caixa de Texto 1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Button("Botão 3!!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TextField("Caixa de Texto 2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(new Label("Rótulo 2!!"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922-8BE2-447C-A669-F7E0ED62E86B}" type="slidenum">
              <a:t>9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50021"/>
                </a:solidFill>
                <a:latin typeface="Courier New"/>
              </a:rPr>
              <a:t>Grid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109960" y="1600200"/>
            <a:ext cx="5627520" cy="419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5D5-1C44-458D-A353-22218BA05A1B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a50021"/>
                </a:solidFill>
                <a:latin typeface="Courier New"/>
              </a:rPr>
              <a:t>java.awt.GridLayout</a:t>
            </a:r>
            <a:endParaRPr b="1" lang="en-US" sz="3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tru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GridLayou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GridLayout(int colunas, int linh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GridLayout(int colunas, int linhas, int espaçoH, int espaço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é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setRows(int ro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ublic void setColumns(int co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nguagem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B19B-4F99-4229-B01D-6AC03D520F66}" type="slidenum">
              <a:t>9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ose Antonio F. Maced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sé Antonio Fernandes de Macêdo</cp:lastModifiedBy>
  <dcterms:modified xsi:type="dcterms:W3CDTF">2002-02-23T15:09:26Z</dcterms:modified>
  <cp:revision>114</cp:revision>
  <dc:subject/>
  <dc:title>PowerPoint Presentation</dc:title>
</cp:coreProperties>
</file>